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Pig.wav" ContentType="audio/x-wav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6.wmf" ContentType="image/x-wmf"/>
  <Override PartName="/ppt/media/image15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6CB-14E6-42ED-A1F4-20FB89296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9848"/>
          <a:stretch/>
        </p:blipFill>
        <p:spPr>
          <a:xfrm rot="5400000">
            <a:off x="6387840" y="4178160"/>
            <a:ext cx="22035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06" name="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ADH passes electrons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lectrons passed from one electron carrier to next in mitochondrial membrane (ETC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4760" y="393120"/>
            <a:ext cx="4752720" cy="1007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97520" y="6153840"/>
            <a:ext cx="4921920" cy="550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3" name="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e diffusion of ions across a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Chemiosmosi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776160"/>
              <a:ext cx="13633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14920" y="1461960"/>
              <a:ext cx="889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0960" y="728640"/>
              <a:ext cx="1463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4120" y="852480"/>
              <a:ext cx="13388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815400" y="5900040"/>
            <a:ext cx="126108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05960" y="5900040"/>
            <a:ext cx="148392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19000" y="5900040"/>
            <a:ext cx="126108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8720" y="5900040"/>
            <a:ext cx="169560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~34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248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0680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4820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0" name="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6" name="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0" y="10800"/>
                  </a:moveTo>
                  <a:arcTo wR="-9360" hR="-936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9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1284120" y="4548240"/>
            <a:ext cx="1735200" cy="1073160"/>
          </a:xfrm>
          <a:prstGeom prst="wedgeEllipseCallout">
            <a:avLst>
              <a:gd name="adj1" fmla="val 66375"/>
              <a:gd name="adj2" fmla="val 6419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is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molecules built in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itochondrial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~34 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3" name="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59720" y="2117880"/>
            <a:ext cx="263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338240" y="1608120"/>
            <a:ext cx="1681560" cy="2425680"/>
            <a:chOff x="7338240" y="1608120"/>
            <a:chExt cx="1681560" cy="2425680"/>
          </a:xfrm>
        </p:grpSpPr>
        <p:sp>
          <p:nvSpPr>
            <p:cNvPr id="144" name=""/>
            <p:cNvSpPr/>
            <p:nvPr/>
          </p:nvSpPr>
          <p:spPr>
            <a:xfrm>
              <a:off x="7338240" y="1608120"/>
              <a:ext cx="168156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875720" y="2481120"/>
              <a:ext cx="37944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080" y="1320120"/>
            <a:ext cx="205740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218600"/>
            <a:ext cx="2438640" cy="520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0" y="2944440"/>
            <a:ext cx="1483560" cy="9406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7400" y="2991960"/>
            <a:ext cx="14137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4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04760" y="4321080"/>
            <a:ext cx="1703520" cy="1041480"/>
          </a:xfrm>
          <a:prstGeom prst="wedgeEllipseCallout">
            <a:avLst>
              <a:gd name="adj1" fmla="val 27074"/>
              <a:gd name="adj2" fmla="val 11356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1" name="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1440" y="10800"/>
                </a:moveTo>
                <a:arcTo wR="-9360" hR="-936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196" name="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75400" y="1315800"/>
            <a:ext cx="4152240" cy="48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01-11T06:40:47Z</cp:lastPrinted>
  <dcterms:modified xsi:type="dcterms:W3CDTF">2008-11-07T15:02:03Z</dcterms:modified>
  <cp:revision>45</cp:revision>
  <dc:subject/>
  <dc:title>Cellular Respiration  Stage 4:    Electron Transport Chain</dc:title>
</cp:coreProperties>
</file>